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CAMERA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A484-36DA-4F22-9A09-0D4568E30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8E73-F286-4613-BA9C-2A2FB435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7CA0-0472-4E20-8981-882CFBA04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CAEB-9DA3-46E5-90ED-F3C470AA9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93199-A1DB-41ED-B0AC-AB16832B0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AE44-C33B-4D0B-8A65-3EE6F832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6C5B-C679-4880-943D-09D26B8A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0ACC-CD3B-4E13-A217-DBC5C75D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2560-513C-44BC-9BC8-2A890475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3512-0B2B-47C3-90AF-77A9520C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D188-5295-48BC-B076-8D08272A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2202-C16C-4068-894C-04D4A0E6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A51A9-E863-441F-8587-0DC07F5D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7D8E-96A1-45CA-8312-06B75B8E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0F51A-A484-4D65-BD25-D66192CD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1136-D7AB-4931-844D-16DBE2CFB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5AFF-8903-44A5-A117-0FD8D8492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4CF5-390C-412A-ACF2-5139E26D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5263-1E59-47E8-BF9F-DC3267DC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EA89-9122-459A-8D25-05A4E4D6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63DE-5961-4C32-9631-648B9519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B39F-5D9B-430A-BADE-0F8AF888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F4A8-C8AA-4C20-925E-972486E8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023D-CE8E-42E3-A662-B6A79247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GCT00236"/>
          <p:cNvPicPr/>
          <p:nvPr/>
        </p:nvPicPr>
        <p:blipFill>
          <a:blip r:embed="rId2"/>
          <a:srcRect l="0" t="0" r="0" b="467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GCT00236"/>
          <p:cNvPicPr/>
          <p:nvPr/>
        </p:nvPicPr>
        <p:blipFill>
          <a:blip r:embed="rId3"/>
          <a:srcRect l="60834" t="60843" r="20834" b="18520"/>
          <a:stretch/>
        </p:blipFill>
        <p:spPr>
          <a:xfrm>
            <a:off x="7467480" y="5410080"/>
            <a:ext cx="1676520" cy="1447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CC72-B32B-472A-AA58-33239F2DB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GCT00236"/>
          <p:cNvPicPr/>
          <p:nvPr/>
        </p:nvPicPr>
        <p:blipFill>
          <a:blip r:embed="rId2"/>
          <a:srcRect l="0" t="0" r="0" b="222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75DB-4767-4778-BBD4-DCAF261FC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Script MT Bold"/>
              </a:rPr>
              <a:t>                                                  </a:t>
            </a:r>
            <a:r>
              <a:rPr b="1" lang="en-US" sz="6600" spc="-1" strike="noStrike">
                <a:solidFill>
                  <a:srgbClr val="ff3300"/>
                </a:solidFill>
                <a:latin typeface="Script MT Bold"/>
              </a:rPr>
              <a:t>Work, Power, Energ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19320" y="29718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ativ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of our examples have increased the potential energy or the kinetic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 = (Force in the direction of motion) x distance traveled in the direction of the for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force is opposite the direction of motion, negative work is d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decreases the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Working at an advan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we’re limited by the amoun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can app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Machines such as ramps, levers, pulleys, etc  allow us to do the same amount of work, but by applying a smaller force over a larger d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= </a:t>
            </a:r>
            <a:r>
              <a:rPr b="0" lang="en-US" sz="4400" spc="-1" strike="noStrike">
                <a:solidFill>
                  <a:srgbClr val="800080"/>
                </a:solidFill>
                <a:latin typeface="Times New Roman"/>
              </a:rPr>
              <a:t>For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x  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Dista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Force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x   </a:t>
            </a:r>
            <a:r>
              <a:rPr b="0" lang="en-US" sz="4000" spc="-1" strike="noStrike">
                <a:solidFill>
                  <a:srgbClr val="800080"/>
                </a:solidFill>
                <a:latin typeface="Times New Roman"/>
              </a:rPr>
              <a:t>Distan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Ram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mps allow the exertion of a smaller force over a longer distance to achieve the same change in gravitational potential energy (the same amount of wor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Group 13"/>
          <p:cNvGrpSpPr/>
          <p:nvPr/>
        </p:nvGrpSpPr>
        <p:grpSpPr>
          <a:xfrm>
            <a:off x="1523880" y="4191120"/>
            <a:ext cx="914400" cy="1512720"/>
            <a:chOff x="1523880" y="4191120"/>
            <a:chExt cx="914400" cy="1512720"/>
          </a:xfrm>
        </p:grpSpPr>
        <p:sp>
          <p:nvSpPr>
            <p:cNvPr id="111" name="Rectangle 4"/>
            <p:cNvSpPr/>
            <p:nvPr/>
          </p:nvSpPr>
          <p:spPr>
            <a:xfrm>
              <a:off x="1587600" y="5246640"/>
              <a:ext cx="83808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AutoShape 5"/>
            <p:cNvSpPr/>
            <p:nvPr/>
          </p:nvSpPr>
          <p:spPr>
            <a:xfrm>
              <a:off x="1523880" y="4191120"/>
              <a:ext cx="914400" cy="9144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Line 6"/>
          <p:cNvSpPr/>
          <p:nvPr/>
        </p:nvSpPr>
        <p:spPr>
          <a:xfrm>
            <a:off x="762120" y="5486400"/>
            <a:ext cx="6705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7"/>
          <p:cNvSpPr/>
          <p:nvPr/>
        </p:nvSpPr>
        <p:spPr>
          <a:xfrm>
            <a:off x="914400" y="3962520"/>
            <a:ext cx="6705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1738440" y="56800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Group 14"/>
          <p:cNvGrpSpPr/>
          <p:nvPr/>
        </p:nvGrpSpPr>
        <p:grpSpPr>
          <a:xfrm>
            <a:off x="3641760" y="3733920"/>
            <a:ext cx="4892760" cy="2209680"/>
            <a:chOff x="3641760" y="3733920"/>
            <a:chExt cx="4892760" cy="2209680"/>
          </a:xfrm>
        </p:grpSpPr>
        <p:sp>
          <p:nvSpPr>
            <p:cNvPr id="117" name="Line 9"/>
            <p:cNvSpPr/>
            <p:nvPr/>
          </p:nvSpPr>
          <p:spPr>
            <a:xfrm flipV="1">
              <a:off x="3809880" y="3733920"/>
              <a:ext cx="4724640" cy="2209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10"/>
            <p:cNvSpPr/>
            <p:nvPr/>
          </p:nvSpPr>
          <p:spPr>
            <a:xfrm rot="20112600">
              <a:off x="3698640" y="5281560"/>
              <a:ext cx="83808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AutoShape 11"/>
            <p:cNvSpPr/>
            <p:nvPr/>
          </p:nvSpPr>
          <p:spPr>
            <a:xfrm rot="3979800">
              <a:off x="5485680" y="3809880"/>
              <a:ext cx="228600" cy="2057400"/>
            </a:xfrm>
            <a:prstGeom prst="upArrow">
              <a:avLst>
                <a:gd name="adj1" fmla="val 50000"/>
                <a:gd name="adj2" fmla="val 2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rizontal Force and the Resulting Horizontal Accele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the horizontal component of the force does work in the horizo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uch work is done moving the wagon 3 mete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6" descr="horizontal force"/>
          <p:cNvPicPr/>
          <p:nvPr/>
        </p:nvPicPr>
        <p:blipFill>
          <a:blip r:embed="rId1"/>
          <a:srcRect l="53620" t="35804" r="5107" b="3413"/>
          <a:stretch/>
        </p:blipFill>
        <p:spPr>
          <a:xfrm>
            <a:off x="609480" y="1947960"/>
            <a:ext cx="38862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tical Work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lift a book of mass 2 kg. from the floor to the desk, or 1.2 meters. W =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lift the same book from the desk to 2.2 m above the desk. W =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ork is done to get the same book from the floor to total height of 3.3m 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Script MT Bold"/>
              </a:rPr>
              <a:t>Work, Power, Energ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219320" y="31237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P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Arial Unicode MS"/>
              </a:rPr>
              <a:t>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doing wor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 = Work per unit time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 Joule per second = 1 Watt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1000 Watts = 1</a:t>
            </a:r>
            <a:r>
              <a:rPr b="1" i="1" lang="en-US" sz="3200" spc="-1" strike="noStrike">
                <a:solidFill>
                  <a:srgbClr val="b2b2b2"/>
                </a:solidFill>
                <a:latin typeface="Times New Roman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Arial"/>
              </a:rPr>
              <a:t>kilowatt</a:t>
            </a:r>
            <a:r>
              <a:rPr b="1" i="1" lang="en-US" sz="3200" spc="-1" strike="noStrike">
                <a:solidFill>
                  <a:srgbClr val="b2b2b2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horsepower (hp) = 746 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ower is a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Arial"/>
              </a:rPr>
              <a:t>scal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quant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7809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ate of using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do 100 joules of work in one second (using 100 joules of energy), the power is 100 wat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 keeps something mov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4"/>
              <p:cNvSpPr txBox="1"/>
              <p:nvPr/>
            </p:nvSpPr>
            <p:spPr>
              <a:xfrm>
                <a:off x="1295280" y="4952880"/>
                <a:ext cx="3886200" cy="12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 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Script MT Bold"/>
              </a:rPr>
              <a:t>Work, Power, Energ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219320" y="31237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Work-Energy Theor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Arial"/>
              </a:rPr>
              <a:t>Work – Energy Theor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The work done on an object by a </a:t>
            </a:r>
            <a:r>
              <a:rPr b="1" i="1" lang="en-US" sz="3200" spc="-1" strike="noStrike">
                <a:solidFill>
                  <a:srgbClr val="800080"/>
                </a:solidFill>
                <a:latin typeface="Times New Roman"/>
                <a:ea typeface="Arial"/>
              </a:rPr>
              <a:t>n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force equals the object’s </a:t>
            </a:r>
            <a:r>
              <a:rPr b="1" i="1" lang="en-US" sz="3200" spc="-1" strike="noStrike">
                <a:solidFill>
                  <a:srgbClr val="800080"/>
                </a:solidFill>
                <a:latin typeface="Times New Roman"/>
                <a:ea typeface="Arial"/>
              </a:rPr>
              <a:t>chan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in kinetic ener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W</a:t>
            </a:r>
            <a:r>
              <a:rPr b="1" i="1" lang="en-US" sz="4400" spc="-1" strike="noStrike" baseline="-25000">
                <a:solidFill>
                  <a:srgbClr val="3333cc"/>
                </a:solidFill>
                <a:latin typeface="Times New Roman"/>
              </a:rPr>
              <a:t>net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mount of energy transferred to the object is equal to the work done.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= 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changing speed from 0 to v, work is don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kinetic energy increases by an amount equal to the work don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(force x distan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inetic Energy ( ½ mass x velocit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ential Energy( mass x g x heigh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P = mv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 = m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= 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aytona 500 ( centimeters that is!!!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Arial Unicode MS"/>
              </a:rPr>
              <a:t>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apacity to do work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must have energy to accomplish work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like the "currency" for performing wor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o 100 joules of work, you must expend 100 joules of energ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Doing work exchanges energ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netic Energy = energy of mo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olling bowling ball can “do work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alling anvil can d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 Energy = Latent capacity for doing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ational potential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clear potential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potential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es can convert energy from one form to another, but the total amount is always conserv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is the usable energy decreasing even though total energy is conserved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ll this “energy of motion”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netic energ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bject’s kinetic energy is given by this equ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½ m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066680" y="57913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netic Energy (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5"/>
          <p:cNvSpPr/>
          <p:nvPr/>
        </p:nvSpPr>
        <p:spPr>
          <a:xfrm flipH="1" flipV="1">
            <a:off x="1600200" y="4648320"/>
            <a:ext cx="4572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2590920" y="51055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of the moving object (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7"/>
          <p:cNvSpPr/>
          <p:nvPr/>
        </p:nvSpPr>
        <p:spPr>
          <a:xfrm flipH="1" flipV="1">
            <a:off x="2819160" y="457200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4267080" y="41911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ty of the moving object (m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9"/>
          <p:cNvSpPr/>
          <p:nvPr/>
        </p:nvSpPr>
        <p:spPr>
          <a:xfrm flipH="1">
            <a:off x="3276720" y="4419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ember the Boo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we put work into the book to lift it, where did that work energy go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we get it back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tential Energy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tore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tential Energ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The amount of energy something has “available” that can be converted to other forms of ener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different “sources” of potential ener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v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Gravit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ert force through a d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force due to gravity between the two obj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tan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how far an object is allowed to f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Energy can be converted into other 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something falls, gravitational potential energy is converted into kinetic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liding frictional force converts kinetic energy into “thermal energy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st rub your hands togeth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did that energy origina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“do work” on something, you change its energy by an amount equal to the work d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Script MT Bold"/>
              </a:rPr>
              <a:t>Work, Power, Energ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3000" y="2895480"/>
            <a:ext cx="6400800" cy="3276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Kinetic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otential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echanical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inetic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6934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nergy possessed by an object because it is in mo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s a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  <a:ea typeface="Arial"/>
              </a:rPr>
              <a:t>scal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quan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Units of kinetic energy: </a:t>
            </a:r>
            <a:r>
              <a:rPr b="1" i="1" lang="en-US" sz="2800" spc="-1" strike="noStrike">
                <a:solidFill>
                  <a:srgbClr val="cc00cc"/>
                </a:solidFill>
                <a:latin typeface="Times New Roman"/>
                <a:ea typeface="Arial"/>
              </a:rPr>
              <a:t>Jo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n object with mass of 1 kg, moving at 1 m/s, has a kinetic energy of 0.5 Jou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4"/>
              <p:cNvSpPr txBox="1"/>
              <p:nvPr/>
            </p:nvSpPr>
            <p:spPr>
              <a:xfrm>
                <a:off x="1219320" y="4495680"/>
                <a:ext cx="4724280" cy="151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2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7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2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7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inetic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n object’s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Arial"/>
              </a:rPr>
              <a:t>kinetic energ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depends 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he object’s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Arial"/>
              </a:rPr>
              <a:t>mass</a:t>
            </a:r>
            <a:r>
              <a:rPr b="0" i="1" lang="en-US" sz="2800" spc="-1" strike="noStrike">
                <a:solidFill>
                  <a:srgbClr val="cc00cc"/>
                </a:solidFill>
                <a:latin typeface="Times New Roman"/>
                <a:ea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Kinetic energy is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Arial"/>
              </a:rPr>
              <a:t>directly proportio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to mas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he object’s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Arial"/>
              </a:rPr>
              <a:t>spe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Kinetic energy is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Arial"/>
              </a:rPr>
              <a:t>directly proportio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to the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Arial"/>
              </a:rPr>
              <a:t>squ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of the object’s speed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ructive energy is proportional to KE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PE - Mechan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4" descr="potential energy"/>
          <p:cNvPicPr/>
          <p:nvPr/>
        </p:nvPicPr>
        <p:blipFill>
          <a:blip r:embed="rId1"/>
          <a:srcRect l="27630" t="0" r="0" b="61187"/>
          <a:stretch/>
        </p:blipFill>
        <p:spPr>
          <a:xfrm>
            <a:off x="685800" y="114300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ld’s Fastest Roller Coa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id the car get up hig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hanges take place during fa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hanges take place during ri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se changes relat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Arial"/>
              </a:rPr>
              <a:t>Potential Energ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Work is 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  <a:ea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always converted directly into kinetic energy.  Instead it is “stored”, or “hidden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Arial"/>
              </a:rPr>
              <a:t>Potential energ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is 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Arial"/>
              </a:rPr>
              <a:t>stored energ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or 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Arial"/>
              </a:rPr>
              <a:t>stored work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Arial"/>
              </a:rPr>
              <a:t>Potential energ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is energy that an object (system) has due to its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Arial"/>
              </a:rPr>
              <a:t>pos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or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Arial"/>
              </a:rPr>
              <a:t>arrang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PE = - Work</a:t>
            </a:r>
            <a:r>
              <a:rPr b="1" lang="en-US" sz="4000" spc="-1" strike="noStrike" baseline="-25000">
                <a:solidFill>
                  <a:srgbClr val="80008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601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Gravitational Potential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energy possessed by an object because of a gravitational intera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he gravitational potential energy of an object at height </a:t>
            </a:r>
            <a:r>
              <a:rPr b="0" i="1" lang="en-US" sz="2800" spc="-1" strike="noStrike">
                <a:solidFill>
                  <a:srgbClr val="cc00cc"/>
                </a:solidFill>
                <a:latin typeface="Times New Roman"/>
                <a:ea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equals the negative of the work that gravity does when the object is lifted from the PE = 0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Times New Roman"/>
                <a:ea typeface="Arial"/>
              </a:rPr>
              <a:t>PE</a:t>
            </a:r>
            <a:r>
              <a:rPr b="0" lang="en-US" sz="6600" spc="-1" strike="noStrike" baseline="-25000">
                <a:solidFill>
                  <a:srgbClr val="0000ff"/>
                </a:solidFill>
                <a:latin typeface="Times New Roman"/>
                <a:ea typeface="Arial"/>
              </a:rPr>
              <a:t>g</a:t>
            </a:r>
            <a:r>
              <a:rPr b="0" lang="en-US" sz="6600" spc="-1" strike="noStrike">
                <a:solidFill>
                  <a:srgbClr val="0000ff"/>
                </a:solidFill>
                <a:latin typeface="Times New Roman"/>
                <a:ea typeface="Arial"/>
              </a:rPr>
              <a:t> = mgh 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  <a:ea typeface="Arial"/>
              </a:rPr>
              <a:t>(= W x h or       F x h or F x dist.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3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8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3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Elastic Potential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pring or other elastic media can store potential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define PE as the work required by a external force to move the object without acceleration between the two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spring is stretched (or compressed) the force changes, so we must aver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4"/>
              <p:cNvSpPr txBox="1"/>
              <p:nvPr/>
            </p:nvSpPr>
            <p:spPr>
              <a:xfrm>
                <a:off x="1447920" y="4497480"/>
                <a:ext cx="4667040" cy="18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lasti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k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Script MT Bold"/>
              </a:rPr>
              <a:t>Work, Power, Energ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219320" y="28951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Conservation of Ener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Mechanical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Arial"/>
              </a:rPr>
              <a:t>Mechanical Energ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= PE + 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Energy by itself is impossible to determine (you can’t  measure energy of any object at any single state) but you can measure </a:t>
            </a:r>
            <a:r>
              <a:rPr b="0" i="1" lang="en-US" sz="3200" spc="-1" strike="noStrike">
                <a:solidFill>
                  <a:srgbClr val="990000"/>
                </a:solidFill>
                <a:latin typeface="Times New Roman"/>
                <a:ea typeface="Arial"/>
              </a:rPr>
              <a:t>chang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in energ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Conservation of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aw of Conservation of Energ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ates that within a closed, isolated system, energy can change form, but the total amount of energy is constant.  Energy can neither be created nor destroy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f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Arial"/>
              </a:rPr>
              <a:t>no external for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act on a system, the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Arial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energy of the system will remain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Arial"/>
              </a:rPr>
              <a:t>const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4"/>
              <p:cNvSpPr txBox="1"/>
              <p:nvPr/>
            </p:nvSpPr>
            <p:spPr>
              <a:xfrm>
                <a:off x="380880" y="5029200"/>
                <a:ext cx="72090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E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E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ital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E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E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na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6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1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Arial"/>
              </a:rPr>
              <a:t>Conservation of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s you throw a ball up in the air, the moment it leaves your hand the ball has little potential energy but a lot of kinetic ener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s the ball moves upward, the kinetic energy is transferred to potential energy and the ball slows d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t the top of  the path, the ball has stopped traveling  upward and has transferred all the kinetic energy into potential ener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ecause of the force due to gravity, the ball starts to move down, the potential energy converting to kinetic energy, increasing the velocity of the ball, until it is caught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-PE on an Inclined Pla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3" descr="incline energy"/>
          <p:cNvPicPr/>
          <p:nvPr/>
        </p:nvPicPr>
        <p:blipFill>
          <a:blip r:embed="rId1"/>
          <a:srcRect l="0" t="22058" r="1827" b="0"/>
          <a:stretch/>
        </p:blipFill>
        <p:spPr>
          <a:xfrm>
            <a:off x="380880" y="1676520"/>
            <a:ext cx="716292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-PE in a Pendul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3" descr="energy pendulum"/>
          <p:cNvPicPr/>
          <p:nvPr/>
        </p:nvPicPr>
        <p:blipFill>
          <a:blip r:embed="rId1"/>
          <a:srcRect l="0" t="15363" r="0" b="26430"/>
          <a:stretch/>
        </p:blipFill>
        <p:spPr>
          <a:xfrm>
            <a:off x="990720" y="1143000"/>
            <a:ext cx="613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Exerting force in a way that makes a chang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wing a rock i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you’re exerting a force, and the rock’s location changes (i.e. “the world has been changed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shing on a brick wall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you’re exerting a force, but “the world doesn’t change” (the wall’s position doesn’t chang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exerting force alone isn’t enough.  You have to bot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ert a for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 a chan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’re not exerting a force, you’re not doing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wing a b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you are “throwing the ball” (as opposed to just holding it) you are exerting a force on the ball.  And the ball is moving.  So you’re do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the ball leaves your hand, you are no longer exerting force.  The ball is still moving, but you’re no longer do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ork Done By “Lifting” Someth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007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we were pushing something along the ground, the work don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n’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pend on the m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fting up something does do work that depends on m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of gra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always pulls down with a force equal to mg, where m is the mass, and g = 9.8 m/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we must exer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much force to lift some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re mass something has, the more work required to lif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cc"/>
                </a:solidFill>
                <a:latin typeface="Times New Roman"/>
              </a:rPr>
              <a:t>W = Fd cos</a:t>
            </a:r>
            <a:r>
              <a:rPr b="1" i="1" lang="en-US" sz="5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one by  force is defined as the product of that force times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aralle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ance over which it ac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nit of work is the newton-meter, called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jou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J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kilowatt hour  is the unit of work.  If a force is doing work at a rate of 1 kilowatt (which is 1000J/s), then in 1 hour it will do 1k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of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k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= 3.6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ork is a sca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523880" y="4876920"/>
            <a:ext cx="7452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Arial"/>
              </a:rPr>
              <a:t>Force is 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  <a:ea typeface="Arial"/>
              </a:rPr>
              <a:t>NOT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Arial"/>
              </a:rPr>
              <a:t>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f the force is </a:t>
            </a:r>
            <a:r>
              <a:rPr b="1" i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perpendicul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to the direction the object moves, the work done is </a:t>
            </a:r>
            <a:r>
              <a:rPr b="1" i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f the object </a:t>
            </a:r>
            <a:r>
              <a:rPr b="1" i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doesn’t mo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the work done is </a:t>
            </a:r>
            <a:r>
              <a:rPr b="1" i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Conditions for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Force must act through a d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Distanc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in the direction of 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work required for satellite or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3T02:42:53Z</dcterms:created>
  <dc:creator>Division of Technology</dc:creator>
  <dc:description/>
  <dc:language>en-US</dc:language>
  <cp:lastModifiedBy>gandella</cp:lastModifiedBy>
  <dcterms:modified xsi:type="dcterms:W3CDTF">2011-01-10T17:28:50Z</dcterms:modified>
  <cp:revision>78</cp:revision>
  <dc:subject/>
  <dc:title>Math:  The Language of Physics</dc:title>
</cp:coreProperties>
</file>